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15C641-5392-4EDA-ADF8-D458B70E97D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54BAC5-CCB7-4C3B-9064-3C7CA07BE16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6A35E4-4EF3-41FF-B74C-83E3620C30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D53-2DE3-4CD6-A4E2-BFD77860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2F7-DF5B-4956-8F99-2CCFAF4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C6D-7365-4E5C-B0AA-09554CF0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05B-5A5F-47C3-BB72-68B9AE57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BFEA-4A11-4056-8619-C464C8C0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FDE2-1A7F-4A8B-A939-711BBA4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29B-D738-4C32-8B9A-20E59116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31C5-B308-4DBA-B2CB-07A45D2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01D-C4E6-4D74-ACFE-2938700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124A-B216-4620-9E47-8429861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B9A-7535-4B5B-8ABC-CE51F19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8DE-B455-4D1F-9E25-60D511B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25A-2144-45F9-9A11-1A09F3B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9D45-7A1F-4779-ADB9-917A742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F49-98DF-48A9-9D64-DCFBECF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F1B-25DD-4755-B407-4086EBE0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A732-B0D6-423B-B991-E0EF613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4F9-50A9-4567-BBC7-61EA842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D06-E534-4364-BEA3-5301EAA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CE2-1A61-4D8D-BAB1-9704EDFD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903-A452-4AE7-983B-89F78AEA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B85-A13D-4890-8A06-9CD5107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F46-F822-4496-B70F-1B13E7A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A72-6D36-4338-A113-7CE43FD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DBA-1958-495E-9AF7-8D098AA1D24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7FB-DAC0-46BA-939D-6FA21B73D84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250920" y="981000"/>
            <a:ext cx="871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993366"/>
                </a:solidFill>
                <a:latin typeface="Calibri"/>
              </a:rPr>
              <a:t>Long term senior policy approach in Pol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3366"/>
                </a:solidFill>
                <a:latin typeface="Calibri"/>
              </a:rPr>
              <a:t>for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arzena Breza PhD, Director of the Department of Senior Policy, </a:t>
            </a:r>
            <a:br>
              <a:rPr sz="2000"/>
            </a:b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inistry of Labour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Calibri"/>
              </a:rPr>
              <a:t>Seminar on active age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Project „Latvia: </a:t>
            </a: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Developing a Comprehensive Active Ageing Strate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for Longer and Better Working Lives</a:t>
            </a: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91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551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33cc"/>
                </a:solidFill>
                <a:latin typeface="Calibri"/>
              </a:rPr>
              <a:t>Riga, April 7th 2014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9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2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1"/>
          <p:cNvSpPr/>
          <p:nvPr/>
        </p:nvSpPr>
        <p:spPr>
          <a:xfrm>
            <a:off x="942840" y="2949480"/>
            <a:ext cx="71503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he Programm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s based on open calls for proposal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organisations that operat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the area of public benef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n-governmental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rganizations run by churches and religious com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cial coope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sociations of local government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nies (including sport clubs) which generate profits intended only to cover their  statutory objective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private enterprises are exclud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6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1"/>
          <p:cNvSpPr/>
          <p:nvPr/>
        </p:nvSpPr>
        <p:spPr>
          <a:xfrm>
            <a:off x="468360" y="2276640"/>
            <a:ext cx="7848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2 edition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f call for proposals (in 2012 and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3200 offer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1700 project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o-fin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tal budget: PLN 60 mln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14 mln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bsidies vary from PLN 20 000 to 200 0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4700 to 478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lying organizations are obliged to cover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 least 10%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f thier projects’ value (financial or human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7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7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1033560" y="2855880"/>
            <a:ext cx="71499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projects were submitted und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iorities I on educ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40%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 on integr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iorities III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participation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IV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service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re scarcely represented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10% in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st projects were based on integration or direct individual services. More emphasis should be put on </a:t>
            </a:r>
            <a:r>
              <a:rPr b="1" i="1" lang="pl-PL" sz="1800" spc="-1" strike="noStrike">
                <a:solidFill>
                  <a:srgbClr val="ff0000"/>
                </a:solidFill>
                <a:latin typeface="Calibri"/>
              </a:rPr>
              <a:t>active participation</a:t>
            </a: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. volunte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8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enior Pa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"/>
          <p:cNvSpPr/>
          <p:nvPr/>
        </p:nvSpPr>
        <p:spPr>
          <a:xfrm>
            <a:off x="541440" y="2637000"/>
            <a:ext cx="765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for 50+ - labour market participation of 50+ and 6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4-2020 (a. 70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enior policy approach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ctive participation of soci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aśnienie prostokątne 2"/>
          <p:cNvSpPr/>
          <p:nvPr/>
        </p:nvSpPr>
        <p:spPr>
          <a:xfrm>
            <a:off x="6659640" y="4869000"/>
            <a:ext cx="1536480" cy="1584360"/>
          </a:xfrm>
          <a:prstGeom prst="wedgeRectCallout">
            <a:avLst>
              <a:gd name="adj1" fmla="val -93361"/>
              <a:gd name="adj2" fmla="val -567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useful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for the New financial perspective 2014-2020 on reg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4000" y="2637000"/>
            <a:ext cx="8569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he Programme was introduced in December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ased on the results of its previous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2014: a. 1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in 2014-2020: a. 7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11280" y="981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3366"/>
                </a:solidFill>
                <a:latin typeface="Calibri"/>
              </a:rPr>
              <a:t>Edition 2014 of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19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24000" y="1700280"/>
            <a:ext cx="8640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Budget limitations were introduced within each priority of the Programme to provide wider diversity of the projects co-financed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. Education of senior citizens – 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activity promoting integration within senior generation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between generations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I. Social participation of senior citizens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V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services for older citizens (external)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0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Long term senior policy approach in Pola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468360" y="227664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mework document introduced in December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ument is composed of following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    Demographical situation in Poland – current state, main challen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     Health and independent liv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     Professional activity of people over age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     Educational, social and cultural activity of senior citiz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     silver econo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     intergenerational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7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10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Active ageing policy vs. European Social Fu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2543040"/>
            <a:ext cx="871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ctive and healty ageing priority – our mai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Care services – standards, trainings for caregivers, ageing in place approach, ICT in care, involvement of people 50+, L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asearch initiatives on age fiendly work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Other initiatives on regional level (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547640" y="3216240"/>
            <a:ext cx="576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f497d"/>
                </a:solidFill>
                <a:latin typeface="Calibri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Marzena Breza (marzena.breza@mpips.gov.p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Olga Richter (olga.richter@mpips.gov.pl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www.mpips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Calibri"/>
              </a:rPr>
              <a:t>www.senior.gov.p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21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9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ole tekstowe 9"/>
          <p:cNvSpPr/>
          <p:nvPr/>
        </p:nvSpPr>
        <p:spPr>
          <a:xfrm>
            <a:off x="468360" y="227664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emographic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Y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2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 Funds for 2014-2020 vs. Demograph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0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19280" y="4221000"/>
          <a:ext cx="5897520" cy="731880"/>
        </p:xfrm>
        <a:graphic>
          <a:graphicData uri="http://schemas.openxmlformats.org/drawingml/2006/table">
            <a:tbl>
              <a:tblPr/>
              <a:tblGrid>
                <a:gridCol w="1006560"/>
                <a:gridCol w="904680"/>
                <a:gridCol w="873360"/>
                <a:gridCol w="682560"/>
                <a:gridCol w="766800"/>
                <a:gridCol w="873000"/>
                <a:gridCol w="79056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09" name="pole tekstowe 3"/>
          <p:cNvSpPr/>
          <p:nvPr/>
        </p:nvSpPr>
        <p:spPr>
          <a:xfrm>
            <a:off x="1187280" y="2781360"/>
            <a:ext cx="748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ble 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roportion of age groups in EU-27 and in Poland, in 2011 (in %) (as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1.12.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urce: own study based on Eurostat (demo_pjanin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1547640" y="5157720"/>
            <a:ext cx="60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asing </a:t>
            </a:r>
            <a:r>
              <a:rPr b="1" lang="en-GB" sz="1400" spc="-1" strike="noStrike">
                <a:solidFill>
                  <a:srgbClr val="7030a0"/>
                </a:solidFill>
                <a:latin typeface="Calibri"/>
              </a:rPr>
              <a:t>life expectancy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average for women 8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72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for men in 20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aśnienie prostokątne 2"/>
          <p:cNvSpPr/>
          <p:nvPr/>
        </p:nvSpPr>
        <p:spPr>
          <a:xfrm>
            <a:off x="7451640" y="4941720"/>
            <a:ext cx="1584360" cy="1079640"/>
          </a:xfrm>
          <a:prstGeom prst="wedgeRectCallout">
            <a:avLst>
              <a:gd name="adj1" fmla="val -68671"/>
              <a:gd name="adj2" fmla="val -48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elatively ’young’ as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1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1332000" y="2565360"/>
            <a:ext cx="684036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able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ulation prognostics 2010–2035 according to age group (in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: Source: own study based on data from Central Statistical Office, Prognoza ludności na lata 2008–203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06400" y="3427560"/>
          <a:ext cx="8229600" cy="1280880"/>
        </p:xfrm>
        <a:graphic>
          <a:graphicData uri="http://schemas.openxmlformats.org/drawingml/2006/table">
            <a:tbl>
              <a:tblPr/>
              <a:tblGrid>
                <a:gridCol w="1282680"/>
                <a:gridCol w="1157400"/>
                <a:gridCol w="1158840"/>
                <a:gridCol w="1157400"/>
                <a:gridCol w="1157040"/>
                <a:gridCol w="1158840"/>
                <a:gridCol w="11574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20" name="pole tekstowe 4"/>
          <p:cNvSpPr/>
          <p:nvPr/>
        </p:nvSpPr>
        <p:spPr>
          <a:xfrm>
            <a:off x="1116000" y="5084640"/>
            <a:ext cx="70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edian of age will increase fro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8 in 2010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48 in 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population dependency rati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increase fro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people in post-working 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 100 people in working age in 2010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6 people in 2035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2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25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1"/>
          <p:cNvSpPr/>
          <p:nvPr/>
        </p:nvSpPr>
        <p:spPr>
          <a:xfrm>
            <a:off x="1116000" y="3762360"/>
            <a:ext cx="7149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Y 2012 in Poland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centr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inistries and other central public bo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region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regional author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1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vents on loc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local NGO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rganisied by the Universities of Third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80 event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re included in the official calender of EY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"/>
          <p:cNvSpPr/>
          <p:nvPr/>
        </p:nvSpPr>
        <p:spPr>
          <a:xfrm>
            <a:off x="1116000" y="3573360"/>
            <a:ext cx="71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Y 2012 in Pol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ctive ageing issues were introduced in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de public da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Year of Third Age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st steps were taken to establis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vernment action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 the field of active and healthy ag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artment of Senior Polic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established within the Ministry of Labour and Soci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Government Programme for Social Participation of Older Citizens 2012-2013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"/>
          <p:cNvSpPr/>
          <p:nvPr/>
        </p:nvSpPr>
        <p:spPr>
          <a:xfrm>
            <a:off x="611280" y="2349360"/>
            <a:ext cx="765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2-2013 (15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ouncil for Senior Policy – advisory body to the Minister (NGOs, social partners, government central, regional and loca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45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8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e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1"/>
          <p:cNvSpPr/>
          <p:nvPr/>
        </p:nvSpPr>
        <p:spPr>
          <a:xfrm>
            <a:off x="942840" y="2949480"/>
            <a:ext cx="715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 in August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ts main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ustain activity of seniors after quitting labour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provide them conditions for sharing their knowledge, skills and experience within their generation as well as with oth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mpower people experiencing dependency due to health reasons and other obsta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help them play new significant social roles – promoting self-help and self-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55" name="Tytuł 1"/>
          <p:cNvSpPr/>
          <p:nvPr/>
        </p:nvSpPr>
        <p:spPr>
          <a:xfrm>
            <a:off x="12600" y="91116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riorities and actions of the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6920" y="2133720"/>
          <a:ext cx="7561440" cy="4751280"/>
        </p:xfrm>
        <a:graphic>
          <a:graphicData uri="http://schemas.openxmlformats.org/drawingml/2006/table">
            <a:tbl>
              <a:tblPr/>
              <a:tblGrid>
                <a:gridCol w="1973520"/>
                <a:gridCol w="5587920"/>
              </a:tblGrid>
              <a:tr h="1346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verse educational offer providing knowledge in different areas (including law, economy, health, prophylaxis, sport, tourism and new technologies), educational programs on active age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assi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volunteering of competenc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educational offer among senio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ng integration within senior generation and between gen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including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c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tourism and recreatio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gaging different generations in cultural activit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ilding social networks based on intergenerational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adicating e-exclus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particip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’ activity for local communities (development of civil society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y supporting participation in social/public lif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o-help network (to build positive image of ageing)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services for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exter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 and assistants in field of helping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various forms of self-hel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families in help for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ased on voluntary assistanc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rease of access to social services in various areas: custody, culture, education, sport and touris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8:14:23Z</dcterms:created>
  <dc:creator>Hania</dc:creator>
  <dc:description/>
  <dc:language>en-US</dc:language>
  <cp:lastModifiedBy>Marzena Breza</cp:lastModifiedBy>
  <cp:lastPrinted>2014-04-03T14:09:38Z</cp:lastPrinted>
  <dcterms:modified xsi:type="dcterms:W3CDTF">2014-04-07T08:33:45Z</dcterms:modified>
  <cp:revision>433</cp:revision>
  <dc:subject/>
  <dc:title>Slide 1</dc:title>
</cp:coreProperties>
</file>